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Fine Ha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Fine Ha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Fine Ha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0B74-E418-4165-BD23-6A09A17762A4}" type="slidenum">
              <a:rPr b="0" lang="nb-NO" sz="1200" spc="-1" strike="noStrike">
                <a:solidFill>
                  <a:srgbClr val="000000"/>
                </a:solidFill>
                <a:latin typeface="Fine Ha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ssholder for lysbilde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FA49-3C52-45E3-A99C-D793D001FC02}" type="slidenum">
              <a:rPr b="0" lang="nb-NO" sz="1200" spc="-1" strike="noStrike">
                <a:solidFill>
                  <a:srgbClr val="000000"/>
                </a:solidFill>
                <a:latin typeface="Fine Ha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A49-85A5-415B-B74D-0508AFE9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F37-E329-491E-ACF3-ED633069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E37-D34A-4F32-91F9-6EB5E3FD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696-BEA3-4DCE-8EC0-7AB3904F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AD4-BD4C-4A8C-A602-FACE473C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9E2-F5AA-404E-99FA-01BE831E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858-0CB9-4CFF-9BF6-B3D872D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4DD-9373-4F55-A22A-8AF69AF1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E76-3A5C-4B64-836B-7D0A8DE6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E28-2904-4987-8BF5-CB0B01DB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EC8-6EE7-424B-963E-A328078A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76A-BD8D-4230-853A-C176A6E6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9764-465E-4292-B0D6-DC76C6A9F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ine Hand"/>
              </a:rPr>
              <a:t>Poem</a:t>
            </a:r>
            <a:r>
              <a:rPr b="0" lang="en-US" sz="4400" spc="-1" strike="noStrike">
                <a:solidFill>
                  <a:srgbClr val="000000"/>
                </a:solidFill>
                <a:latin typeface="Fine Hand"/>
              </a:rPr>
              <a:t> 4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ine Hand"/>
              </a:rPr>
              <a:t>By Emily Dick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45440" cy="5049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550600" y="33336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The Tyrian would not come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424720" cy="631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4656240" y="2144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Until the North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582520" y="263700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Invoke it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990960" y="306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Creator 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7"/>
          <p:cNvSpPr/>
          <p:nvPr/>
        </p:nvSpPr>
        <p:spPr>
          <a:xfrm>
            <a:off x="324000" y="189000"/>
            <a:ext cx="813744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Shall I-bloom? </a:t>
            </a:r>
            <a:r>
              <a:rPr b="0" lang="en-US" sz="2800" spc="-1" strike="noStrike">
                <a:solidFill>
                  <a:srgbClr val="808080"/>
                </a:solidFill>
                <a:latin typeface="Fine Hand"/>
              </a:rPr>
              <a:t>Shall I –bloom? 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-bloom?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 –bloom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? Shall I bloom?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 </a:t>
            </a:r>
            <a:endParaRPr b="0" lang="en-US" sz="18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–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-bloom? Shall I –bloom?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 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-bloom? </a:t>
            </a: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bloom? Shall I-bloom?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Shall I –bloom?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Shall I bloom?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 Shall I –bloom? </a:t>
            </a: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4356000" y="1125360"/>
            <a:ext cx="3961080" cy="3918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4624200" cy="5975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856440" y="3789360"/>
            <a:ext cx="4109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Fine Hand"/>
              </a:rPr>
              <a:t>Dwell in</a:t>
            </a:r>
            <a:endParaRPr b="0" lang="en-US" sz="66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Fine Hand"/>
              </a:rPr>
              <a:t>Possibility</a:t>
            </a:r>
            <a:endParaRPr b="0" lang="en-US" sz="66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Emily Dickinson</a:t>
            </a: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024280" y="4437000"/>
            <a:ext cx="525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ine Hand"/>
              </a:rPr>
              <a:t>Shall I-Bloom?</a:t>
            </a:r>
            <a:endParaRPr b="0" lang="en-US" sz="60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20000" cy="6120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001400" y="51577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God made a little Gentian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051560" y="923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It tried to be -</a:t>
            </a:r>
            <a:r>
              <a:rPr b="0" lang="en-US" sz="1800" spc="-1" strike="noStrike">
                <a:solidFill>
                  <a:srgbClr val="000000"/>
                </a:solidFill>
                <a:latin typeface="Fine Ha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509800" y="58896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A Rose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88000" cy="4267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332360" y="99216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And failed 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1150920" y="1628640"/>
            <a:ext cx="243360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5317560" y="90792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and all the summer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5205240" y="1484280"/>
            <a:ext cx="2810160" cy="3745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5708880" y="436572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ine Hand"/>
              </a:rPr>
              <a:t>Laughed</a:t>
            </a: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324000" y="243000"/>
            <a:ext cx="8208720" cy="6156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1471680" y="77616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ine Hand"/>
              </a:rPr>
              <a:t>But just before the snows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714840" y="404640"/>
            <a:ext cx="4537080" cy="6048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023840" y="1484280"/>
            <a:ext cx="23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There rose a 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Purple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Creature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71640" y="3860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That ravished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All the hill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96000" cy="5022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373400" y="5877000"/>
            <a:ext cx="64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Fine Hand"/>
              </a:rPr>
              <a:t>And Summer hid her forehead-</a:t>
            </a: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5904000" cy="4600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187280" y="40464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And Mockery –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547760" y="501336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Still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888720" y="4365720"/>
            <a:ext cx="48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ine Hand"/>
              </a:rPr>
              <a:t>The Frosts were her condition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3:56:54Z</dcterms:created>
  <dc:creator>Jan Morten</dc:creator>
  <dc:description/>
  <dc:language>en-US</dc:language>
  <cp:lastModifiedBy>aniol</cp:lastModifiedBy>
  <dcterms:modified xsi:type="dcterms:W3CDTF">2009-03-10T21:16:32Z</dcterms:modified>
  <cp:revision>12</cp:revision>
  <dc:subject/>
  <dc:title>Lysbilde 1</dc:title>
</cp:coreProperties>
</file>